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7.gif" ContentType="image/gif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33E6-ACC8-4C6B-98B4-BA2F2A362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E4B39D-EB8C-4979-AA06-5BE15BE6A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CA4935-53DC-4901-9CE1-E69AC8E2F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8FD4A4-A05C-4F69-9693-31C28134D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7495B5-3CF1-41D6-85FC-527A3DC74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AA9480-2EE0-4CEF-B918-6375DA3E6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275ED6-2C7B-4FFF-8E8F-ED33C9AA1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238E9B-51DE-4EEA-8777-6A9ACE1DB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C66F37-5A4F-43BE-B1AD-79EA0167E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B19-193E-46D0-ADE1-3710A9A4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403-CE55-4504-907A-EAEE27BB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155-15D5-41DB-B0F9-16E5A058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B54-BB9A-4536-9279-C343D5AF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DDC-CD57-421C-BB1E-BA9BD413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E87-6DA6-4229-9876-EA86DB64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855-29AA-40E3-ACD1-6AFEAA19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C90B-5001-4534-A93A-B420F12A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DAE-8F6D-4D4A-AFED-D41FDF19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455-B9EB-4C36-B9AA-767B2F2D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F66-BABA-4C3C-9729-E3329949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3FC2-EE34-4B8B-8E66-0F6E18CD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E7A6-7DF4-4356-AD63-B90269257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A34D-28E7-470A-ABC1-4FCC49DCB0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Universal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D1BF-820C-42A7-94B6-178D1910A2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666880" y="3095640"/>
            <a:ext cx="381024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ylindrica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3A7F-E24F-49A1-805B-D264458FD4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untitled"/>
          <p:cNvPicPr/>
          <p:nvPr/>
        </p:nvPicPr>
        <p:blipFill>
          <a:blip r:embed="rId1"/>
          <a:stretch/>
        </p:blipFill>
        <p:spPr>
          <a:xfrm>
            <a:off x="2666880" y="2514600"/>
            <a:ext cx="245772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l-and-socket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herical jo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DC96-87E1-45DF-85E8-A5076E81D10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sper"/>
          <p:cNvPicPr/>
          <p:nvPr/>
        </p:nvPicPr>
        <p:blipFill>
          <a:blip r:embed="rId2"/>
          <a:stretch/>
        </p:blipFill>
        <p:spPr>
          <a:xfrm>
            <a:off x="4876920" y="2743200"/>
            <a:ext cx="32652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ip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7C4F-52B2-4EE9-A64C-5522DCE711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8" descr="manipulator-articulateed"/>
          <p:cNvPicPr/>
          <p:nvPr/>
        </p:nvPicPr>
        <p:blipFill>
          <a:blip r:embed="rId1"/>
          <a:stretch/>
        </p:blipFill>
        <p:spPr>
          <a:xfrm>
            <a:off x="838080" y="4114800"/>
            <a:ext cx="2133720" cy="176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30" descr="manipulator-cartesian"/>
          <p:cNvPicPr/>
          <p:nvPr/>
        </p:nvPicPr>
        <p:blipFill>
          <a:blip r:embed="rId2"/>
          <a:stretch/>
        </p:blipFill>
        <p:spPr>
          <a:xfrm>
            <a:off x="838080" y="1523880"/>
            <a:ext cx="2028960" cy="195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31" descr="manipulator-cylindrical"/>
          <p:cNvPicPr/>
          <p:nvPr/>
        </p:nvPicPr>
        <p:blipFill>
          <a:blip r:embed="rId3"/>
          <a:stretch/>
        </p:blipFill>
        <p:spPr>
          <a:xfrm>
            <a:off x="3352680" y="1523880"/>
            <a:ext cx="2286000" cy="182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32" descr="manipulator-spherical"/>
          <p:cNvPicPr/>
          <p:nvPr/>
        </p:nvPicPr>
        <p:blipFill>
          <a:blip r:embed="rId4"/>
          <a:stretch/>
        </p:blipFill>
        <p:spPr>
          <a:xfrm>
            <a:off x="6172200" y="1295280"/>
            <a:ext cx="2057400" cy="200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3" descr="manipulator-SCARA"/>
          <p:cNvPicPr/>
          <p:nvPr/>
        </p:nvPicPr>
        <p:blipFill>
          <a:blip r:embed="rId5"/>
          <a:stretch/>
        </p:blipFill>
        <p:spPr>
          <a:xfrm>
            <a:off x="3200400" y="3886200"/>
            <a:ext cx="2438280" cy="1690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34"/>
          <p:cNvSpPr/>
          <p:nvPr/>
        </p:nvSpPr>
        <p:spPr>
          <a:xfrm>
            <a:off x="83808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tesian: 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35"/>
          <p:cNvSpPr/>
          <p:nvPr/>
        </p:nvSpPr>
        <p:spPr>
          <a:xfrm>
            <a:off x="3581280" y="3429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ylindrical: R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36"/>
          <p:cNvSpPr/>
          <p:nvPr/>
        </p:nvSpPr>
        <p:spPr>
          <a:xfrm>
            <a:off x="62485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herical: R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7"/>
          <p:cNvSpPr/>
          <p:nvPr/>
        </p:nvSpPr>
        <p:spPr>
          <a:xfrm>
            <a:off x="3200400" y="5638680"/>
            <a:ext cx="236232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elective Compliance Assembly Robot A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38"/>
          <p:cNvSpPr/>
          <p:nvPr/>
        </p:nvSpPr>
        <p:spPr>
          <a:xfrm>
            <a:off x="762120" y="5943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ticulated: R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39" descr="manipulator-tool"/>
          <p:cNvPicPr/>
          <p:nvPr/>
        </p:nvPicPr>
        <p:blipFill>
          <a:blip r:embed="rId6"/>
          <a:stretch/>
        </p:blipFill>
        <p:spPr>
          <a:xfrm>
            <a:off x="6324480" y="3962520"/>
            <a:ext cx="1828800" cy="1282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40"/>
          <p:cNvSpPr/>
          <p:nvPr/>
        </p:nvSpPr>
        <p:spPr>
          <a:xfrm>
            <a:off x="5791320" y="5181480"/>
            <a:ext cx="37335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 coord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normal vector;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sliding vecto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approach vector, normal to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 mounting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configur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the manipulator is a complete specification of the location of every point on the manipul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know the values for th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joint variabl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(joint angle for revolute joints or joint offset for prismatic joints), it is straightforward to infer the position of any point on the manipul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 configuration is represented by a set of values for the joint variabl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object is said to hav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grees of freedom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DOF)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ts configuration can be minimally specified b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 parame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robot manipulator, the number of joints determine the number of D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ach any point in the space with an arbitrary orientation: 6 DOF (3 DOF f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sitio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3 DOF f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han 6 DOF: the arm cant reach any point in the space with an arbitrary ori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6 DOF: Kinematically redundant manipula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tain applications may require more than 6 DOF, 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tacle Avoid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kspace of the manipulator is the total volume swept out by the end effector as the manipulator executes all possible mo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pace is constrain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metry of the manipul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 constraint of the joints (a revolute joint may be limited to less than 360 degre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video.avi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69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6504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achable Workspac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entire set of points reachable by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pula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xtrous Workspac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sists of those points that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pulator can reach with an arbitrary orientation of the end effe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xtrous Workspac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s a subset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achable Worksp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rk W. Spong, Seth Hutchins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M. Vidyasagar,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bot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Contro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” 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ey , 20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BN-10: 047164990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BN-13: 978-0471649908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751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ormance Mea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curac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s a measure of how close the manipulator can come to a given point within its worksp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eat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s a measure of how close the manipulator can return to a previously taught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st and End Eff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st: the joints between the arm and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ly, the arm controls the position of the end effector, and the wrist controls the orient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DOF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ypical wrist would have 3 DOF described as roll, pitch and yaw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oll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 around the arm ax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itch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 and down movement (assuming the roll is in its centre position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aw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ght to left rotation (assuming the roll is in its centre pos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wrist.jpg"/>
          <p:cNvPicPr/>
          <p:nvPr/>
        </p:nvPicPr>
        <p:blipFill>
          <a:blip r:embed="rId1"/>
          <a:stretch/>
        </p:blipFill>
        <p:spPr>
          <a:xfrm>
            <a:off x="3200400" y="4114800"/>
            <a:ext cx="5000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Eff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evice on the end of the arm, attached via the wrist, that performs the task, such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ippers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o hold and move obj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ols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perform work on a part, not just to pick it up. A tool could be held by a gripper, making the system more flex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D:\Documents and Settings\Ayssam\Desktop\gripper-t.gif"/>
          <p:cNvPicPr/>
          <p:nvPr/>
        </p:nvPicPr>
        <p:blipFill>
          <a:blip r:embed="rId1"/>
          <a:stretch/>
        </p:blipFill>
        <p:spPr>
          <a:xfrm>
            <a:off x="4038480" y="4762440"/>
            <a:ext cx="38102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. Craig, Introduction to Robotics: Mechanics and Control,” 2nd edi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ISBN: 0-201-52539-9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s Cove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orm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acob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ajectory gen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obot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Robot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 –A reprogrammable manipulator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to perform specific mechanical functions such as move material and pa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Robotics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cience dealing with design, construction and operation of rob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ip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bot manipulators are composed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k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ed b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joi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1400"/>
          <p:cNvPicPr/>
          <p:nvPr/>
        </p:nvPicPr>
        <p:blipFill>
          <a:blip r:embed="rId1"/>
          <a:stretch/>
        </p:blipFill>
        <p:spPr>
          <a:xfrm>
            <a:off x="990720" y="2895480"/>
            <a:ext cx="239688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photo"/>
          <p:cNvPicPr/>
          <p:nvPr/>
        </p:nvPicPr>
        <p:blipFill>
          <a:blip r:embed="rId2"/>
          <a:stretch/>
        </p:blipFill>
        <p:spPr>
          <a:xfrm>
            <a:off x="4419720" y="2819520"/>
            <a:ext cx="41148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joint is the connection between two or more links at their nod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nstrains the motions of the connected lin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joint can be classified a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-DO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-DO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-D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61C7-5DF2-464A-8681-36B2BD2DAD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Revolut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j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ses a rotational mo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 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4EB4-91F9-43A9-A5BD-FA0D25DEED5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4457880" cy="2724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Prismatic Joint"/>
          <p:cNvPicPr/>
          <p:nvPr/>
        </p:nvPicPr>
        <p:blipFill>
          <a:blip r:embed="rId2"/>
          <a:stretch/>
        </p:blipFill>
        <p:spPr>
          <a:xfrm>
            <a:off x="6019920" y="31240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ismatic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ses a translational mo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: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33EE-350B-4E31-8618-6FDAEF34C8E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2176560" cy="239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Prismatic Joint"/>
          <p:cNvPicPr/>
          <p:nvPr/>
        </p:nvPicPr>
        <p:blipFill>
          <a:blip r:embed="rId2"/>
          <a:stretch/>
        </p:blipFill>
        <p:spPr>
          <a:xfrm rot="16200000">
            <a:off x="5324400" y="2828880"/>
            <a:ext cx="22860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yssam</cp:lastModifiedBy>
  <dcterms:modified xsi:type="dcterms:W3CDTF">2009-09-03T03:16:23Z</dcterms:modified>
  <cp:revision>62</cp:revision>
  <dc:subject/>
  <dc:title>Slide 1</dc:title>
</cp:coreProperties>
</file>